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37F6-9DCE-4ABD-8760-29C88508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D52-9C52-4D98-BE0C-4A391896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390-461C-4D5C-8A2C-FAAA811A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E64-0BDD-4995-99EF-CD982D52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2FF1-8DF7-43BB-9656-43DFF17A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F8B-8D13-4C89-86B9-6AD71A4D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8C88-41CF-4B43-AC95-E3FC3A28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420-7E25-49F4-A592-400C6436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AE6-9AA8-4FAB-9E37-AE7B0B22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6C3-C09D-48E9-B9AB-CD694CC6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DD3-B76C-4AEA-8EEC-3D39F645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996D-43DD-462C-9013-B0A5AC7D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97D4-8B88-4E39-B5B3-90C33540B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11600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003640" y="155736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06:14Z</dcterms:created>
  <dc:creator>01690112</dc:creator>
  <dc:description/>
  <dc:language>en-US</dc:language>
  <cp:lastModifiedBy>01690112</cp:lastModifiedBy>
  <dcterms:modified xsi:type="dcterms:W3CDTF">2009-07-21T10:07:23Z</dcterms:modified>
  <cp:revision>1</cp:revision>
  <dc:subject/>
  <dc:title>Slide 1</dc:title>
</cp:coreProperties>
</file>